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793-411D-4F74-A8B2-78499F84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7AE-2B31-4A2A-922C-7A392F22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AA9-AF13-489D-9F52-B5BBE8BD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FDD-68F1-4C66-B8BC-5797FA52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5B6-F63E-4B36-B096-0453DF2B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124-5A93-4539-BB20-F5EFC832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C58-368B-4601-8977-07B0EE9A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0DE-A501-40BD-8163-77C3F7EC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DEF-CD57-4B41-A455-BA8F152B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C46-1E10-499F-BE1D-3DE7ED31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3ED-6DD6-4E15-A602-2B21540E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83A-0B36-4504-9DE5-7DB7DF33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79D7-4CED-46F7-B3B1-F0FDC2E7E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304920"/>
            <a:ext cx="8450280" cy="1226880"/>
          </a:xfrm>
          <a:prstGeom prst="rect">
            <a:avLst/>
          </a:prstGeom>
          <a:solidFill>
            <a:srgbClr val="76a5a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In sp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82920" y="1905120"/>
            <a:ext cx="51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82920" y="1905120"/>
            <a:ext cx="51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7960" y="4165560"/>
            <a:ext cx="2519280" cy="302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112160" y="4165560"/>
            <a:ext cx="2444760" cy="296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454560" y="1828800"/>
            <a:ext cx="2947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                       </a:t>
            </a:r>
            <a:r>
              <a:rPr b="1" i="1" lang="en-US" sz="43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117440"/>
            <a:ext cx="9626400" cy="61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How the comet is call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What's the name of Neil's rock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Where Neil was bo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How did Maria discover the com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What do you think about Neil Armstrong? People says that he did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´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e the moon . Is it true? Tell us abou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Complete the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ia was the _____  American _______ to work as an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7.In which year was Valentina Tereshkova bor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8.What is the name of Neil Armstrong's rocke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9.What is the name of Valentina Tereshkova's rocke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WinuE</cp:lastModifiedBy>
  <dcterms:modified xsi:type="dcterms:W3CDTF">2011-01-19T18:09:32Z</dcterms:modified>
  <cp:revision>6</cp:revision>
  <dc:subject/>
  <dc:title>PowerPoint Presentation</dc:title>
</cp:coreProperties>
</file>